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1151-5572-4193-BC1A-8142CB6E4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CACA-712C-4E63-A2B1-59F1A71C8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BD50-1F37-4A1D-8A66-6F221529D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53C2-2555-4B44-B834-6D051F99F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857AD-765E-4F94-AA7F-BC4F15ED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86934-6CE0-494E-B53E-4D43D2D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5EA65-C8A7-45A4-9CCA-7184DBE8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35D30-C300-44FB-B94B-EB7F6D8C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CEB4-FB19-4F66-BFA0-D25DD5EE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238A9-8814-46B0-B0B2-7744B750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1767-AEEB-49DA-984D-EB45D02C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75AF-F73B-4FD5-BB07-C9613F32F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DF95-D523-4379-8685-EDDD728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00C74-D9AD-417D-8819-41316D5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05720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1511C-627F-44A4-BFE3-F5D511F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77115-863C-4564-A76B-A1F1894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82844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057200"/>
            <a:ext cx="2428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6C147-8DA9-4B13-91B8-A222A22A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4425-23BB-47DA-BE8D-47F1814B7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C2E9-85D7-4E9E-A9D2-69C7FB96D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9927-2459-4E6F-9190-819001C34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3FDA-B86C-44A8-8069-7D82EB08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34B7-6100-41FA-8BF0-645BF2DD7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05720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074D-DE0B-4178-803C-7E5635314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828440"/>
            <a:ext cx="3681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057200"/>
            <a:ext cx="754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6DD9-CC34-4DFE-AC74-CDD33F46F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Kutná Hora, 21.1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5EE1-B2FB-42A9-BAAD-DC7134781D3D}" type="slidenum">
              <a:rPr b="0" lang="cs-CZ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0328-3CA4-4FED-9568-DA62A66E9A11}" type="slidenum">
              <a:rPr b="0" lang="cs-CZ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3640" y="3581280"/>
            <a:ext cx="427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ipravi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rmila Podolníková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(CIT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lena Uxová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(OGV Jihlav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laďka Mazačová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(ČMVU Prah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9900"/>
                </a:solidFill>
                <a:latin typeface="Tahoma"/>
              </a:rPr>
              <a:t>Registr sbírek výtvarného umění na internetu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672160"/>
            <a:ext cx="47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utná Hora, 21.1.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Role CITeM při budování Registru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dá převaděč záznamů z Demusu zainteresovaným instituc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ne a nastaví aplikaci ProMuS (buď na serveru MZM nebo na serveru, kde jsou uloženy www stránky R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romáždí textové soubory s daty a obrazové soubory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 jednotlivých institucí a zabezpečí aktualizaci d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plní slovníkové tabulky (rejstříky) pro vyhled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ne veškerou uživatelskou podpor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Role institucí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aždá instituce, která dodává data, bude odpovíd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 obsah svých d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 kvalitu a autorství svých obrázků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Role R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finuje právní rámec Registru sbírek výtvarného um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mlouva o provozu mezi CITeM a R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zodpovědnost za aktualizaci d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uje pro členské instituce doporučení (metodiku) k zápisu dat do Demusu a k obrazovým formátů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bere grafický design pro Regist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Závě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gistr sbírek výtvarného umění bude první databází, která představí výtvarné umění českých galerií na internetu v ucelené podob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gistr přispěje ke zkvalitnění obsahu databází jednotlivých galeri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898560" y="4452840"/>
            <a:ext cx="77119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9900"/>
                </a:solidFill>
                <a:latin typeface="Tahoma"/>
              </a:rPr>
              <a:t>Kontakty: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podolnikova@mz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xova@ogv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ladka.mazacova@cmvu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12952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gistr sbírek výtvarného umění na internetu - myšlenka dlouhodobá - oživena minulý rok Mgr. Jůzou na setkání v CITeM (využití aplikace ProMuS pro účely Registr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666880"/>
            <a:ext cx="8153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Cíle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Tahoma"/>
              </a:rPr>
              <a:t>hlav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: zpřístupnit odborné veřejnosti sbírky výtvarného umění za účelem vyhledávání děl pro prezentace a další badatelské úč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Tahoma"/>
              </a:rPr>
              <a:t>vedlejš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: zpřístupnit sbírky výtvarného umění laické veřej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cc9900"/>
                </a:solidFill>
                <a:latin typeface="Tahoma"/>
              </a:rPr>
              <a:t>dlouhodobý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: ukázat propojení muzejních autorit a sbírek výtvarného um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Postup tvorby Registru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tvoření stručného zadání ze strany 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tvoření pracovní skup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lerie: Vlaďka Mazačová a Alena Ux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ITeM: Jarmila Podolník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Registru a návrh řeš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teré údaje - výběr polí z Demusu pro Regist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jak mají vypadat - zobrazovací formát jednotlivých pol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razová dokumentace - stanovení obrázku pro ex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peciální aplikace pro převod dat z Demusu - tvorba a test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Aplikace pro převod d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800000"/>
                </a:solidFill>
                <a:latin typeface="Garamond"/>
              </a:rPr>
              <a:t>Převadě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atabázová aplikace v Access97 - jednoduchý formulář - pracovat s ním lze bez další nápově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urá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listuje cestu k databázi,  ze které se budou vybírat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ůže omezit výběr záznamů tabulky Sbír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noví, které obrázky se budou exportov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bere adresář, do kterého se uloží výsledný textový soubor a obrázk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e, co do Registru odesílá, vi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Převaděč - formulář</a:t>
            </a:r>
            <a:br>
              <a:rPr sz="4200"/>
            </a:b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247760"/>
          <a:ext cx="8534520" cy="53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47760"/>
                    <a:ext cx="853452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Další postup tvorby Registru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mport zkušebních dat do ProMu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estování a připomínkování ze strany galeri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vůrčí nápady z testování jsou impulsem pro vznik nové verze Pro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pecifikace zadání nové verze Pro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gramování: Ondřej Klíma, stud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est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ý stav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800000"/>
                </a:solidFill>
                <a:latin typeface="Garamond"/>
              </a:rPr>
              <a:t>ProMuS01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ProMuS </a:t>
            </a:r>
            <a:r>
              <a:rPr b="0" lang="cs-CZ" sz="4200" spc="-1" strike="noStrike">
                <a:solidFill>
                  <a:srgbClr val="800000"/>
                </a:solidFill>
                <a:latin typeface="Tahoma"/>
              </a:rPr>
              <a:t>01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ro každou tabulku zobrazí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abulkový přehled (1 záznam = 1 řádek tabulky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tail záznamu (1 samostatný zázna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řazení podle vybraných polí tabul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bsahuje vyhledávací apar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ahoma"/>
              </a:rPr>
              <a:t>používá rejstříky pro vyhled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ahoma"/>
              </a:rPr>
              <a:t>výběr doplňuje označováním zázna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ahoma"/>
              </a:rPr>
              <a:t>připraví jednoduchý tiskový výst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429000"/>
            <a:ext cx="3504960" cy="388620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800000"/>
                </a:solidFill>
                <a:latin typeface="Garamond"/>
              </a:rPr>
              <a:t>   </a:t>
            </a:r>
            <a:r>
              <a:rPr b="0" lang="cs-CZ" sz="4800" spc="-1" strike="noStrike">
                <a:solidFill>
                  <a:srgbClr val="800000"/>
                </a:solidFill>
                <a:latin typeface="Garamond"/>
              </a:rPr>
              <a:t>ProMuS     </a:t>
            </a:r>
            <a:br>
              <a:rPr sz="4800"/>
            </a:b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univerzální prohlížeč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libovolných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atabázový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abule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Registr - tabulkový přehl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676520"/>
          <a:ext cx="86104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610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cc9900"/>
                </a:solidFill>
                <a:latin typeface="Tahoma"/>
              </a:rPr>
              <a:t>Registr - detail záznamu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111400"/>
          <a:ext cx="86868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11400"/>
                    <a:ext cx="86868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10Z</dcterms:created>
  <dc:creator>MZM</dc:creator>
  <dc:description/>
  <dc:language>en-US</dc:language>
  <cp:lastModifiedBy>MZM</cp:lastModifiedBy>
  <dcterms:modified xsi:type="dcterms:W3CDTF">2009-01-20T09:23:28Z</dcterms:modified>
  <cp:revision>39</cp:revision>
  <dc:subject/>
  <dc:title>Registr sbírek výtvarného umě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34450282</vt:r8>
  </property>
  <property fmtid="{D5CDD505-2E9C-101B-9397-08002B2CF9AE}" pid="3" name="_AuthorEmail">
    <vt:lpwstr>vladka.mazacova@cmvu.cz</vt:lpwstr>
  </property>
  <property fmtid="{D5CDD505-2E9C-101B-9397-08002B2CF9AE}" pid="4" name="_AuthorEmailDisplayName">
    <vt:lpwstr>Vladimíra Mazačová</vt:lpwstr>
  </property>
  <property fmtid="{D5CDD505-2E9C-101B-9397-08002B2CF9AE}" pid="5" name="_EmailSubject">
    <vt:lpwstr>prezentace</vt:lpwstr>
  </property>
</Properties>
</file>