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A415-A523-49C3-96EC-086D4F8AE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evětsil je příklad spolku, který se v nic netransformoval, má pouze několik verzí názvů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DFF-DAD3-429D-B8F7-658942BDC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polek výtvarných umělců (SOV) je příkladem umělecké skupiny, která prošla několika transformacemi, které jsou i časově vymezen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9EE8-5C6C-41F1-81D1-8AD9A8D6A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MPRUM / VŠUP je učebnicovým příkladem měnícího se názvu školy (včetně statutu – ze střední školy ke škole vysoké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B8B9-DD99-46DC-934D-7AB7F3863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cadémie / ENSBA je příklad složitého vývoje. Od školy, která v revolučních letech byla zrušena a pod stejným názvem byla znovu založena, ovšem jako akademická instituce, na které se nestuduje a je jednou z akademií Institut de France. Škola ENSBA byla založena později a je to ta škola, na které studovalo mnoho českých umělců a zažilo se používat nesprávně termín Academie des beaux art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9925-4705-4A54-8A28-07408A07E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kongresové knihovně má záznam Académie des beaux-arts (Francie), současná akademická instituce, je zde popsána jako podřízená korporace Institutu Francie – „$b se uvádí v pořadí hierarchie“ (vysvětlit?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NA je záznam propojen přes viz též s École, což je špatn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E6B4-84CF-4A67-8F10-061F1B6EE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École nationale supérieure des beaux-arts (Francie) má v NA dva záznamy, záznam (xx0114494) asi zrušit včetně vazby na Académie des… a převést propojené personální záznamy pod správný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5AB8-12F3-4DC7-947B-6724B250D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F0D9-97AA-4358-A052-5B0D0C6DF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D06-1A96-4F60-A69C-9743E686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E80-07C7-41D8-83B0-6A1E1D10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D4D-3DE4-4EE8-88AE-044F0193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0B6-BFC4-487D-A480-8D541CC4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D76-18FE-4BC0-BC4E-D09CEA35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B87-0D7D-4627-BC14-C3C57421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A2-353C-4F48-A8DC-5F2B87EA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FAD-902C-4A6A-A831-84802F85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BFD-7635-4F2C-BEAF-5CEBB0D2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DDB-4106-429F-973A-13A8738E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3D3-6733-4A7C-BC37-8F84035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2C9-C015-42DD-9986-10C4208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074-8D69-4AEF-828E-33F11F2178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authorities.loc.gov/" TargetMode="External"/><Relationship Id="rId3" Type="http://schemas.openxmlformats.org/officeDocument/2006/relationships/hyperlink" Target="http://authorities.loc.gov/" TargetMode="External"/><Relationship Id="rId4" Type="http://schemas.openxmlformats.org/officeDocument/2006/relationships/hyperlink" Target="http://authorities.loc.gov/" TargetMode="External"/><Relationship Id="rId5" Type="http://schemas.openxmlformats.org/officeDocument/2006/relationships/hyperlink" Target="http://authorities.loc.gov/" TargetMode="External"/><Relationship Id="rId6" Type="http://schemas.openxmlformats.org/officeDocument/2006/relationships/hyperlink" Target="http://authorities.loc.gov/" TargetMode="External"/><Relationship Id="rId7" Type="http://schemas.openxmlformats.org/officeDocument/2006/relationships/hyperlink" Target="http://authorities.loc.gov/" TargetMode="External"/><Relationship Id="rId8" Type="http://schemas.openxmlformats.org/officeDocument/2006/relationships/hyperlink" Target="http://authorities.loc.gov/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90920" y="3848040"/>
            <a:ext cx="64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Calibri"/>
              </a:rPr>
              <a:t>Připravil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Calibri"/>
              </a:rPr>
              <a:t>Vlaďka Mazačová (R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itomyšl, 10. - 11. 10.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1811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Harmonizace rozvoje Registru sbírek výtvarného umění a Muzejních autorit (MA)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ditace korporativních auto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logoCITeM"/>
          <p:cNvPicPr/>
          <p:nvPr/>
        </p:nvPicPr>
        <p:blipFill>
          <a:blip r:embed="rId1"/>
          <a:stretch/>
        </p:blipFill>
        <p:spPr>
          <a:xfrm>
            <a:off x="1523880" y="3848040"/>
            <a:ext cx="8366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rg_logo1"/>
          <p:cNvPicPr/>
          <p:nvPr/>
        </p:nvPicPr>
        <p:blipFill>
          <a:blip r:embed="rId2"/>
          <a:stretch/>
        </p:blipFill>
        <p:spPr>
          <a:xfrm>
            <a:off x="685800" y="3848040"/>
            <a:ext cx="781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Kvalifikátor u jména korpo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Calibri"/>
              </a:rPr>
              <a:t>Kvalifikátor = stručné slovní vyjádření, píše se do kulatých závore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Calibri"/>
              </a:rPr>
              <a:t>Obecný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používá se jen v omezené míře, kde hrozí záměna nebo nevíme, co korporace přesně znamená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např. Česká beseda (spol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Calibri"/>
              </a:rPr>
              <a:t>Míst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české galerie, muzea, knihovny, nemocnice, základní a střední školy povinně pokud není neoddělitelná součást názvu (ověřuje se v souboru geografických autorit), u zahraničních korporací se převádí do češtiny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např. National Gallery of Art (Spojené státy americké)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Calibri"/>
              </a:rPr>
              <a:t>Instituce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zápis vědeckých ústavů, u zahraničních se nepřekládá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např. Institut Afriki (Akademija nauk SSSR)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Calibri"/>
              </a:rPr>
              <a:t>Rok(y)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lišení stejného jména, které korporace používala v různých obdobích své existence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např. Spolek olomouckých výtvarníků (1937-194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Calibri"/>
              </a:rPr>
              <a:t>Kombinace kvalifikátorů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dělují se dvojtečkou s mezerami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např. Mission (hudební skupina : Spojené státy americk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Všeobecně platí, že kvalifikátor by se měl používat tam, kde je nutné odlišit dvě nebo více korporací stejného nebo snadno zaměnitelného jména (to ovšem neplatí pouze pro používání obecného kvalifikátoru – velmi často se právě pro toto odlišení používá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kvalifikátor místa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) nebo u korporací, z jejíchž názvů není zřejmé, že jde o korporaci (toto je naopak typické pro používání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obecného kvalifikátoru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Např. „Česká beseda“ (může to být spolek, tanec, časopis apod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Upřesnění geografického kvalifikátoru: …pokud není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neoddělitelnou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součástí názvu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Např. „Muzeum hlavního města Prahy“ – jméno místa nelze oddělit;  naopak např. „Městská galerie Karlovy Vary“ – může být sporné, zda jméno místa je nebo není součástí názvu, ale jméno místa lze oddělit a „přenést“ do kvalifikátoru:  „Městská galerie (Karlovy Vary, Česko)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Mělo by být zřejmé, že kvalifikátory místa se používají nejen u pěti typů českých korporací, kde je to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ovinné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, ale v případě potřeby (tj. pro odlišení dvou nebo více korporací stejného nebo snadno zaměnitelného jména) i v dalších případe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Asi není úplně přesné říci, že u zahraničních korporací se převádí kvalifikátor místa do češtiny (neplatí to vždy – např. polské město Ketř má autoritní formu Kietrz apod.), spíš bude lepší zdůraznit nutnost ověřování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geografických jmen v souboru geografických autor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Zahraniční korpor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ahraniční korporace se uvádějí v záhlaví v originálním jazyce. Českou formu jména volíme do záhlaví u mezinárodních korporací, kde je tato česká forma jména běžně používaná a zažitá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(např.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Organizace spojených národů /  OSN má přednost před United Nations /U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raniční korporace se pokud možno přebírají ze souboru autorit Kongresové knihovny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uthorities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loc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gov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, zachová  se podoba autoritního záhl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roj se uvádí LC(Names), cit. dd. mm. rr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21440" cy="5140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7240" y="129600"/>
            <a:ext cx="668952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Devětsil (umělecká skupin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Spolek výtvarných umělců / S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937 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olek olomouckých výtvarníků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akládající člen spolku Aljo Beran je 10 let jeho předsedo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945/46 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Blok výtvarných umělců země Moravskoslezské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dním z kolektivních členů bloku se stal SOV, proměněný v roce 1946 n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kupinu moravských výtvarní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951 - Svaz československých výtvarných umělců (jednotná organiz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991 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olek olomouckých výtvarníků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(není nástupníkem S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Spolek výtvarných umělců / S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9260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Spolek výtvarných umělců / S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971640" y="1442880"/>
            <a:ext cx="69674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Spolek výtvarných umělců / S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Zástupný symbol pro obsah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5446800" cy="3705120"/>
          </a:xfrm>
          <a:prstGeom prst="rect">
            <a:avLst/>
          </a:prstGeom>
          <a:ln w="0">
            <a:noFill/>
          </a:ln>
        </p:spPr>
      </p:pic>
      <p:pic>
        <p:nvPicPr>
          <p:cNvPr id="89" name="Obrázek 6" descr=""/>
          <p:cNvPicPr/>
          <p:nvPr/>
        </p:nvPicPr>
        <p:blipFill>
          <a:blip r:embed="rId2"/>
          <a:stretch/>
        </p:blipFill>
        <p:spPr>
          <a:xfrm>
            <a:off x="3917880" y="2027160"/>
            <a:ext cx="3573360" cy="305604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8"/>
          <p:cNvSpPr/>
          <p:nvPr/>
        </p:nvSpPr>
        <p:spPr>
          <a:xfrm>
            <a:off x="1042920" y="5229360"/>
            <a:ext cx="727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Calibri"/>
              </a:rPr>
              <a:t>V Ostravě se vytvořil Blok výtvarných umělců země Moravskoslezské, jehož kolektivními členy se staly všechny výtvarné spolky (Brno, Hodonín, Olomouc, Opava, Ostrava), mezi nimi SOV, proměněný v roce 1946 na Skupinu moravských výtvarní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Spolek výtvarných umělců / S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Zástupný symbol pro obsah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6335640" cy="5200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Školy – UMPRUM / VŠ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87640" y="980640"/>
            <a:ext cx="20876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Škola vznikla v r.1885; od r.1946 se nazývá Vysoká škola uměleckoprůmyslová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Zástupný symbol pro obsah 3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5226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f6228"/>
                </a:solidFill>
                <a:latin typeface="Calibri"/>
              </a:rPr>
              <a:t>Školy- Académie / ENS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cadémie des beaux-arts (Francie)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znikla 1803 a je dědičkou královských akademií malířské a sochařské, zal. 1648, hudby, založené 1669 a architektury, zal. 1671 (umělecké školy byly zrušeny v roce 1793) a stala se součástí Institutu Francie, zal. 1795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00000"/>
                </a:solidFill>
                <a:latin typeface="Calibri"/>
              </a:rPr>
              <a:t>Je akademickou institucí – není to škol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SLÁNÍ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bát na citlivý přístup ve výuce umění ve všeobecně vzdělávacích školách a bdít nad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valitou výuky umění ve školách specializovaný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rganizovat spolupráci a výměny mezi umělci z celého svě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hránit a ilustrovat kulturní dědictví Francie a rozvíjet j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cole nationale supérieure des beaux-arts (Franci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ložena 1816, po revolučním roce 1968, ministr kultury André Malraux oddělil od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školy architekturu - Ecoles nationales supérieures d'architecture (ENS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Ecole des beaux-arts jsou umělecké školy ve Francii, nejznámější je právě Ecole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tionale supérieure des beaux-arts (ENSB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00000"/>
                </a:solidFill>
                <a:latin typeface="Calibri"/>
              </a:rPr>
              <a:t>Ve francouzštině se accent na začátku jména (velké písmeno) nepíše. Pozor při vyhledávání ve webovém editoru, aby nevznikaly duplicit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yužití korporativních autorit v 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ladní popisní údaje korporativní autority v editoru 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české a zahraniční korpor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ýstavy (akce, ale popis editace je stejný, proto je uvedeme z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f6228"/>
                </a:solidFill>
                <a:latin typeface="Calibri"/>
              </a:rPr>
              <a:t>Académie des beaux-arts (Francie)</a:t>
            </a:r>
            <a:br>
              <a:rPr sz="4400"/>
            </a:b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Zástupný symbol pro obsah 3" descr=""/>
          <p:cNvPicPr/>
          <p:nvPr/>
        </p:nvPicPr>
        <p:blipFill>
          <a:blip r:embed="rId1"/>
          <a:stretch/>
        </p:blipFill>
        <p:spPr>
          <a:xfrm>
            <a:off x="108000" y="1455840"/>
            <a:ext cx="4181400" cy="456552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5" descr=""/>
          <p:cNvPicPr/>
          <p:nvPr/>
        </p:nvPicPr>
        <p:blipFill>
          <a:blip r:embed="rId2"/>
          <a:stretch/>
        </p:blipFill>
        <p:spPr>
          <a:xfrm>
            <a:off x="4346640" y="1989000"/>
            <a:ext cx="4608360" cy="403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2" name="TextovéPole 6"/>
          <p:cNvSpPr/>
          <p:nvPr/>
        </p:nvSpPr>
        <p:spPr>
          <a:xfrm>
            <a:off x="4432320" y="153036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Záznam v kongresové knihov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f6228"/>
                </a:solidFill>
                <a:latin typeface="Calibri"/>
              </a:rPr>
              <a:t>Ecole nationale supérieure des beaux-arts (Franci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ástupný symbol pro obsah 3" descr=""/>
          <p:cNvPicPr/>
          <p:nvPr/>
        </p:nvPicPr>
        <p:blipFill>
          <a:blip r:embed="rId1"/>
          <a:stretch/>
        </p:blipFill>
        <p:spPr>
          <a:xfrm>
            <a:off x="4427640" y="1638360"/>
            <a:ext cx="4543200" cy="43830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4267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ENSBA v Kongresové knihovn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2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Místa jako korpor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rady, zámky, tvrze, panská sídla, pojmenované domy (mlýny, pily, samoty, vily), hřbitovy, nádraží, letiště, stadiony, koncentrační tábory a samozřejmě i hotely, nákupní centra, výstaviště, muzea, galerie, továrny, školy, nemocnice apod. nepatří mezi geografické autority, ale zapisují se jako korporace!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01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4572000" cy="2543400"/>
          </a:xfrm>
          <a:prstGeom prst="rect">
            <a:avLst/>
          </a:prstGeom>
          <a:ln w="0">
            <a:noFill/>
          </a:ln>
        </p:spPr>
      </p:pic>
      <p:pic>
        <p:nvPicPr>
          <p:cNvPr id="111" name="01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365760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Ak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 našem webovém editoru dosud nemáme možnost založit novou akci, pouze propojit existující s osobou přes Viz též.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í nové akce přes klienta ARL mohou provést supervizoři (Mazačová, Podolníková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2546280" y="3848040"/>
            <a:ext cx="64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4280" y="1181160"/>
            <a:ext cx="9055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Editace korporativních autori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ěkuji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logoCITeM"/>
          <p:cNvPicPr/>
          <p:nvPr/>
        </p:nvPicPr>
        <p:blipFill>
          <a:blip r:embed="rId1"/>
          <a:stretch/>
        </p:blipFill>
        <p:spPr>
          <a:xfrm>
            <a:off x="3735360" y="3179880"/>
            <a:ext cx="83664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rg_logo1"/>
          <p:cNvPicPr/>
          <p:nvPr/>
        </p:nvPicPr>
        <p:blipFill>
          <a:blip r:embed="rId2"/>
          <a:stretch/>
        </p:blipFill>
        <p:spPr>
          <a:xfrm>
            <a:off x="2897280" y="3179880"/>
            <a:ext cx="780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Korporativní autorita v 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y, skupiny, spo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boženské entity, církevní řá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ísta jako korpor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Calibri"/>
              </a:rPr>
              <a:t>Editor MA - korpo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Korporace - Forma jmé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Calibri"/>
              </a:rPr>
              <a:t>Forma jmé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římé pořadí - většina jmen korporac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urisdikce – ministerstva, úřady, města, okresy, kraje, president, církv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vertované (převrácené) pořa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01" descr=""/>
          <p:cNvPicPr/>
          <p:nvPr/>
        </p:nvPicPr>
        <p:blipFill>
          <a:blip r:embed="rId1"/>
          <a:stretch/>
        </p:blipFill>
        <p:spPr>
          <a:xfrm>
            <a:off x="380880" y="5105520"/>
            <a:ext cx="5867640" cy="93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9400" y="4419720"/>
            <a:ext cx="2286000" cy="45972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í se označ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876920" y="4648320"/>
            <a:ext cx="1752480" cy="9903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Korporace - Jmén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7428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Calibri"/>
              </a:rPr>
              <a:t>Jméno = jméno korporace (+ kvalifikáto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eferovaná forma jména nebo jméno první organizační jednotky (u jurisdikc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nažíme se dodržet jméno, které korporace sama použí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Calibri"/>
              </a:rPr>
              <a:t>Jméno části korpor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kud je uvedeno, tak Jméno ukončíme tečk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0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599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Korporace -Odka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00"/>
                </a:solidFill>
                <a:latin typeface="Calibri"/>
              </a:rPr>
              <a:t>Viz =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jiná (nepreferovaná) forma jména, zkratka, jazykové ver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90000"/>
                </a:solidFill>
                <a:latin typeface="Calibri"/>
              </a:rPr>
              <a:t>Viz též =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azba (propojení) na předchůdce nebo následovníka např. UMPRUM / VŠUP. Tato vazba vyžaduje vyplnění pole Poznámka, které vysvětlí vztah mezi záhlavím a odkazem Viz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01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578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Korporace - Poznám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tručná charakteristika korporace, např. Spolek působil v letech 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harakteristika není povinn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 editoru MA do tohoto pole zapisujeme i zdroj, z něhož jsme informace čerpal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droj uvádíme vždy, např. Zdroj: www(Wikipedia, the free encyclopedia), cit. 3. 8.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Korporace - U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odkazy na oficiální www stránky škol, firem, spolků apod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další odkazy pro potřeby muzeí zatím nepoužívá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01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57722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7:04:02Z</dcterms:created>
  <dc:creator>Mazač</dc:creator>
  <dc:description/>
  <dc:language>en-US</dc:language>
  <cp:lastModifiedBy>MZM</cp:lastModifiedBy>
  <dcterms:modified xsi:type="dcterms:W3CDTF">2012-10-16T16:39:12Z</dcterms:modified>
  <cp:revision>73</cp:revision>
  <dc:subject/>
  <dc:title>Prezentace aplikace PowerPoint</dc:title>
</cp:coreProperties>
</file>