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C5D-EC31-40E2-BE1A-99929423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B6A-B4B0-423A-8061-59D65C79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D3D-BB67-4C43-BF32-FC4CA935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5D7-90F0-4664-AF94-5F5E560E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B12-CCDF-45BD-A55A-630DA3F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A33-43FC-4BE7-882F-897216C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E8A-417B-4C46-9A44-5977238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BB1-9E93-42EB-B250-B0A9EB18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E7D-E234-4950-A2BE-C82FF98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D87-10C6-47C3-A86E-9C7FF5D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CED-4AA2-40D0-A941-8838BDF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52E-03AD-477A-9773-F5284A9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987-1C7D-4D52-A5D0-3E66CA6F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0920" y="3580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Připrav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0000"/>
                </a:solidFill>
                <a:latin typeface="Arial"/>
              </a:rPr>
              <a:t>Jarmila Podolníková (CITeM MZ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tomyšl, 10. - 11. 10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Harmonizace rozvoje Registru sbírek výtvarného umění a Muzejních autorit (MA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ace geografických auto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goCITeM"/>
          <p:cNvPicPr/>
          <p:nvPr/>
        </p:nvPicPr>
        <p:blipFill>
          <a:blip r:embed="rId1"/>
          <a:stretch/>
        </p:blipFill>
        <p:spPr>
          <a:xfrm>
            <a:off x="1523880" y="3581280"/>
            <a:ext cx="8366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rg_logo1"/>
          <p:cNvPicPr/>
          <p:nvPr/>
        </p:nvPicPr>
        <p:blipFill>
          <a:blip r:embed="rId2"/>
          <a:stretch/>
        </p:blipFill>
        <p:spPr>
          <a:xfrm>
            <a:off x="685800" y="358128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a - Odkaz Viz té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6324480" cy="3595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1160" y="354348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Odkaz Viz též = vazba (propojení) na související geografické entity, zejména na podřazené a nadřaz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erarchická nadřazenost/podřazenost se zaznamenává do pole Vztah, kdežto časová následnost se jen komentuje v poli Poznámka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a - UR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RL = adresa elektronického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kud neslouží jen pro muzea, tak musí být podle pravidel NA v kombinaci s polem Stručná ci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01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010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ísta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1. zdroj: www(Adresy ČR-MVČR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aplikace.mvcr.cz/adre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adresy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30592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Příklad geo autority v M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znam v editoru MA zapíšeme tak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02" descr=""/>
          <p:cNvPicPr/>
          <p:nvPr/>
        </p:nvPicPr>
        <p:blipFill>
          <a:blip r:embed="rId1"/>
          <a:stretch/>
        </p:blipFill>
        <p:spPr>
          <a:xfrm>
            <a:off x="0" y="2590920"/>
            <a:ext cx="91263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Kvalifikátor názv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á-li se jediná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b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de jediný kvalifikátor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01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5600520" cy="2419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7720" y="546084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Košařiska (Če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572000"/>
            <a:ext cx="838440" cy="30492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Kvalifikátor náz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ografický kvalifiká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ud se jedná o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část ob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vedeme i ob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4760" y="5867280"/>
            <a:ext cx="46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Křimice (Plzeň, Česk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04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952960" cy="253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4640" y="4808520"/>
            <a:ext cx="1371600" cy="30492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Kvalifikátor náz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ají-li se dvě stejné části obce, ale obec je jedinečná, v kvalifikátoru přibude ok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03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589572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17720" y="6019920"/>
            <a:ext cx="61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Miřejovice (Litoměřice, Česk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079960"/>
            <a:ext cx="47242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Kvalifikátor náz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ají-li se dvě stejné části obce, ale obec není jedinečná, v kvalifikátoru přibude obec i ok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03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589572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6019920"/>
            <a:ext cx="81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Miřejovice (Nová Ves, Mělník, Česk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440" y="5292720"/>
            <a:ext cx="487656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ísta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2. zdroj: www(Mapy.cz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map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85341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06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5486400" cy="3179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Kvalifikátor náz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žíváme buď pro upřesnění nebo v případě, že jsme v 1. zdroji nebyli úspě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ykle se vyhledávají menší celky než ob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2760" y="601668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Juliánov (Brno, Če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5334120"/>
            <a:ext cx="838080" cy="30456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8862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edám </a:t>
            </a:r>
            <a:r>
              <a:rPr b="1" lang="cs-CZ" sz="2400" spc="-1" strike="noStrike">
                <a:solidFill>
                  <a:srgbClr val="990000"/>
                </a:solidFill>
                <a:latin typeface="Arial"/>
              </a:rPr>
              <a:t>Julián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část Brna, v městské části Žide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Obsa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6934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ití geo autorit v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opisní údaje geo autority v editoru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sta v ČR a 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sta mimo ČR a 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Příklad geo autority v 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ůžeme doplnit jiný název do odkazu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nadřazený termín do odkazu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z té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znam v editoru MA zapíšeme tak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7" descr=""/>
          <p:cNvPicPr/>
          <p:nvPr/>
        </p:nvPicPr>
        <p:blipFill>
          <a:blip r:embed="rId1"/>
          <a:stretch/>
        </p:blipFill>
        <p:spPr>
          <a:xfrm>
            <a:off x="17640" y="2952720"/>
            <a:ext cx="9126360" cy="390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8280" y="4608360"/>
            <a:ext cx="533520" cy="22860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160" y="5146560"/>
            <a:ext cx="609480" cy="26676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ísta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3. kombinace www(Mapy.cz) a www(Adresy ČR-MVČ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 stanovení kvalifikátoru je užitečné dohledání informací ve zdroji www(Adresy ČR-MVČ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4. 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lnění dalších informací potřebných k vytvoření nové geo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ísta mimo ČR -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1. zdroj: LC (N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authorities.loc.gov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01" descr=""/>
          <p:cNvPicPr/>
          <p:nvPr/>
        </p:nvPicPr>
        <p:blipFill>
          <a:blip r:embed="rId1"/>
          <a:stretch/>
        </p:blipFill>
        <p:spPr>
          <a:xfrm>
            <a:off x="201600" y="3022560"/>
            <a:ext cx="8840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Příklad geo autority v M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znam podle LC Names zapíšeme do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lníme poznámku, případně odkaz na wikiped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01" descr=""/>
          <p:cNvPicPr/>
          <p:nvPr/>
        </p:nvPicPr>
        <p:blipFill>
          <a:blip r:embed="rId1"/>
          <a:stretch/>
        </p:blipFill>
        <p:spPr>
          <a:xfrm>
            <a:off x="50760" y="2971800"/>
            <a:ext cx="90154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Příklad geo autority v M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a stejného názvu v jednom státě upřesníme kvalifikát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924360" cy="1171440"/>
          </a:xfrm>
          <a:prstGeom prst="rect">
            <a:avLst/>
          </a:prstGeom>
          <a:ln w="0">
            <a:noFill/>
          </a:ln>
        </p:spPr>
      </p:pic>
      <p:pic>
        <p:nvPicPr>
          <p:cNvPr id="126" name="01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3305160" cy="115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93320" y="259092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Arzberg (Bavorsko, Německ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4040" y="411480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Arzberg (Sasko, Německ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Příklad geo autority v M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stskou část doplní v kvalifikátoru název mě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01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440560" cy="369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91880" y="22096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Brigittenau (Vídeň, Rakou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Místa mimo ČR -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alší zdroje:</a:t>
            </a: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www(Get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wikipe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(Wikipedie, otevřená encykloped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(Wikipedia, the free encyclo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(Wikipedia, die freie Enzyklopäd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90920" y="358092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</a:rPr>
              <a:t>jpodolnikova@mzm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8560" y="914400"/>
            <a:ext cx="9055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ditace geografických autorit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ITeM"/>
          <p:cNvPicPr/>
          <p:nvPr/>
        </p:nvPicPr>
        <p:blipFill>
          <a:blip r:embed="rId1"/>
          <a:stretch/>
        </p:blipFill>
        <p:spPr>
          <a:xfrm>
            <a:off x="1523880" y="3581280"/>
            <a:ext cx="83664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rg_logo1"/>
          <p:cNvPicPr/>
          <p:nvPr/>
        </p:nvPicPr>
        <p:blipFill>
          <a:blip r:embed="rId2"/>
          <a:stretch/>
        </p:blipFill>
        <p:spPr>
          <a:xfrm>
            <a:off x="685800" y="358128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y v 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Místa u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rození a úmr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5320" y="1599840"/>
            <a:ext cx="4496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opojení přes Viz té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dliště nebo významný pob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Editor MA - nová geo autori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geo_form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a - Název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Název = geografické jméno + kvalifiká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zvy států jsou bez kvalifiká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šechna geografická jména mají kvalifikátor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kality, které jsou součástí většího celku mají v kvalifikátoru název tohoto ce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nazev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138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Kvalifikátor náz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becný kvalifik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eka, potok, přehradní nádrž, hora, pohoří – kvalifikátor se zapisuje po čá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res, naučná stezka, přírodní památka, chráněná oblast, zaniklá obec – obecný kvalifikátor se zapisuje spolu s geografickým v podobě (země : kvalifiká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ografický kvalifik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orava, ře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5257800"/>
            <a:ext cx="59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00"/>
                </a:solidFill>
                <a:latin typeface="Arial"/>
              </a:rPr>
              <a:t>Boršov (Česko : zaniklá ob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a - Poznámk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oznámka = vysvětlující tex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c… v okre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Část obce… v okres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ěsto ve spolkové zemi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ěsto ve stejnojmenné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ména osob či korporací, od nichž požadavek na založení záznamu odvíjí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měpisné souřad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znamka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a - Stručná cit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8098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tručná citace = citace zdroje, z něhož byly informace převz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řevzato = konkrétní informace, která byla převzata z uvedeného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 případě více citovaných zdroj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69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Geo autorita - Odkaz Viz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38098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dkaz Viz = další, nepreferovaná jména téhož zázn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ší jmé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nojazyčná jmé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01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tem10</dc:creator>
  <dc:description/>
  <dc:language>en-US</dc:language>
  <cp:lastModifiedBy>MZM</cp:lastModifiedBy>
  <dcterms:modified xsi:type="dcterms:W3CDTF">2012-10-17T18:06:43Z</dcterms:modified>
  <cp:revision>1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