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896-0994-493A-96C4-0A41F4BB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03E-2AA5-4E82-A514-F58B728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ACD-6152-4748-AE95-B5F07EF5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5BD-73FF-49F4-9A29-801F4869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C978-70A9-431B-8C32-409EF7FB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E5E-A4AD-412D-BB07-7D203AE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05B-411F-4399-9797-D4368E18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235-BF86-41B6-AB23-E4DF443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73A5-FFBA-4AD4-BD7F-EF303D9C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0B9-7929-4834-A650-DA33885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F98-37C6-469F-ABBE-1377ABD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431-B076-4376-8EB3-A1C8088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FD3-1818-445D-B498-D1C59D9A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E8E2-6F11-4700-8A41-03636EF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2601-0E3E-425C-AE99-68C5A79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A18-C381-4BEF-B89D-C90CF008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BED2-C7B4-4956-874E-48FB0BE8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022-C42C-45DD-A278-A45D1C3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17D-E0ED-4C83-87BE-6F8BAD5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CD6-9098-488D-8B50-7F0A14B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EBF-BAED-4212-AB10-D52D233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AA9-3861-42E4-958F-3C77E2A3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B0B-53D8-4C6E-AC4A-D1697B9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CE7-6D83-4BBE-B8B6-2AEEF13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54F-6B77-4BE6-B160-68D0A6833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09E-DC32-4294-92F9-C8A3D2E55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 Black"/>
              </a:rPr>
              <a:t>Tvorba autoritního záznamu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 Black"/>
              </a:rPr>
              <a:t>pro korporace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07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Zdro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Zdroj nalezených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ace zdroj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povinné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ená inform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Zdroj prověřovaný s negativním výsledkem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ace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Elektronické umístění a přístup (UR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resa elektronického zdro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3616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nterní údaje o zpraco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avový kód a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pis katalogizá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Druh opravy/dopl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rovenience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pouze u „českých“ korpor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ČI I. - Základní problém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175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korpo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grafická jména v korporativním zá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 korpo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forma jména korpo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ání kvalifiká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českých korporací s kvalifikátorem mí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Zahraniční korporac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9721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Royal College of Art (Velká Britá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.C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álovská akademie umění (Velká Britá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LC (N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autoritni forma, odkazy 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Royal College of 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Wikipedie, otevřená encykloped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česká varianta náz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ficiální stránk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http://www.royalacademy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Geografická jména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ve vstupním prvku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440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Chorvat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Ministarstvo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rvat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ry of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e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arstvo kulture Republike Hrvats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C (N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ritni forma, odkazy 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Geografická jména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ve vstupním prvku</a:t>
            </a:r>
            <a:br>
              <a:rPr sz="3600"/>
            </a:b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s doplňkem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67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ayerisches National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yerisches Nationalmuseum Münche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yerisches National-Museum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varian National Museum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cze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Mnichov (Německ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yerisches National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C (N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ritni forma, odkazy 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Mezinárodní korporac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45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Mezinárodní rada muzeí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seil international des mu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f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ational Council of Museum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ationaler Museumr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rada muzeí I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C (N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dkazy 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Wikipedie, otevřená encykloped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autoritní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tručná forma jména korporac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56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Akademie výtvarných umění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y of Fine Arts in Pr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Akademie výtvarných umění 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iciální stránk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http://www.vse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užívání kvalifikátoru</a:t>
            </a:r>
            <a:br>
              <a:rPr sz="3600"/>
            </a:b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obecný kvalifikátor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4880" y="2349000"/>
            <a:ext cx="8654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Tvrdohlaví 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(umělecká skup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upina Tvrdohla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V):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olné umělecké sdružení, které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formálně existovalo v letech 1987 až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2001.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Wikipedie, otevřená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ncyklopedie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upina Tvrd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užívání kvalifikátoru</a:t>
            </a:r>
            <a:br>
              <a:rPr sz="3600"/>
            </a:b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kvalifikátor místa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24000" y="1557000"/>
            <a:ext cx="98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třední uměleckoprůmyslová škola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(Praha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Š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 též: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třední průmyslová škola bytové tvorby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(Praha, Česko)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 též: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yšší odborná škola uměleckoprůmyslová a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třední uměleckoprůmyslová škola (Praha,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Česko)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K):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řívější název: Střední průmyslová škola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bytové tvorby (1961-1962). Od r.1996 j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oučástí Střední uměleckoprůmyslové školy v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aze Vyšší odborná škola uměleckoprůmyslo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Obsah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né standardy a doporučen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a autoritního záz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é interpretace AACR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roblémy (ČI 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řízené a související korporace (ČI 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rporace zapsané pod jurisdikcí (ČI 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jekty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tavby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ako korporace (ČI 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užívání kvalifikátoru</a:t>
            </a:r>
            <a:br>
              <a:rPr sz="3600"/>
            </a:b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instituce jako kvalifikátor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9279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Ústav dějin umění 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(Akademie věd ČR)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dějin umění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ademie věd České republi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dějin um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itut für Kunstgeschichte der Akademi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Wissenschaften der Tschechische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ub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zeg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Akademie věd Č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ünchen - Prag um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ěmecká varianta náz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užívání kvalifikátoru</a:t>
            </a:r>
            <a:br>
              <a:rPr sz="4000"/>
            </a:b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rok/roky jako kvalifikátor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 u="sng">
                <a:solidFill>
                  <a:srgbClr val="3333ff"/>
                </a:solidFill>
                <a:uFillTx/>
                <a:latin typeface="Arial"/>
              </a:rPr>
              <a:t>Česká obec sokolská (1889-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kol (organizace : 1889-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ělocvičný spolek Sokol (1889-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odkaz viz též:  a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Tělocvičná jednota Sokol Praž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odkaz viz též:  b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Českoslovanská obec sokol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známka (K):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Dřívější název Tělocvičná jednota Sokol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ažský (od r.1864). Česká obec sokolská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znikla r.1889; r.1891 vznikla Moravsko-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lezská obec sokolská; r.1904 se sloučily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 Českoslovanskou obec sokolskou.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Česká obec sokols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užívání kvalifikátoru</a:t>
            </a:r>
            <a:br>
              <a:rPr sz="4000"/>
            </a:b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rok/roky jako kvalifikátor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666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á obec sokolská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á obec sokolská (1990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odkaz viz též:  a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Československá obec sokol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K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á obec sokolská obnovila svo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innost r.1990. Dřívější název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oslovenská obec sokolská (pod tímt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vem existovala od r.1920 do r.1952 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ou zákazu činnosti v letech 1941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, kdy byla rozpuštěn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V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zaměňovat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Česká obec sokolská (1889-1904)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Česká obec sokols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galerie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656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Galerie Václava Špály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Praha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álova galerie (Praha, Česko)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álova galerie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Nadace Český fond umění 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lerie Václava Špá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muzea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440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Muzeum Dr. Bohuslava Horá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Rokycany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zeum Dr. Bohuslava Horáka 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kycane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ionální muzeum Dr. Bohuslava Horáka 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kycane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Muzeum Dr. Bohuslava Horáka 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kycan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knihovny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nihovna Jana Dr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Příbram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ovna Jana Drdy v Příbr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Knihovna Jana Drdy Příb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nemocnice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31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Fakultní nemocnice u svaté Anny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Brno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N u svaté Anny  (Brno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Masarykova univerz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Lékařská faku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Fakultní nemocnice u svaté A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V):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ice je výukovým pracovišt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Lékařské fakulty Masarykovy univerz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základní a střední školy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914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Střední škola uměleckých řeme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Brno, Česko)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ŠUŘ B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Střední škola uměleckých řemesel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odborná škola uměleckých řemesel Brno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y českých korporací   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 kvalifikátorem místa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! výjimka bez kvalifikátoru !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Galerie hlavního města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lerie hl. m. Pra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H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Galerie hlavního města Pra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ficiální stránk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citygalleryprague.cz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ČI II. - Podřízené a související korporac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4440" y="2276280"/>
            <a:ext cx="8881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. ty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odbor, oddělení, sekc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. ty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ýbor, komis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. ty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číselná, písmenná, … podříze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. ty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umělecká sbírka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5. ty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ysokoškolská fakulta, katedr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6. ty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obsahuje celé jméno nadřízené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po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Závazné standard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o-americká katalogizační pravid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kapitola 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é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české interpre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e kapitolám 23 a 24 AACR2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pis jmen ve jmenném a věcném zpracování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pis jmen ve jmenném a věcném zpracování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pis jmen ve jmenném a věcném zpracování 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4046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1. typ (odbor, oddělení, sekce, …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2205000"/>
            <a:ext cx="943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Národní muzeum (Praha, Česk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Oddělení novodobých českých děj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dní muzeum (Praha, Česk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storické muz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í novodobých českých děj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í novodobých českých dějin NM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Národní muze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2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výbor, komise, …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40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Asociace muzeí a galerií České republi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omise knih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omise knihovníků Asociace muzeí a galerí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K AMG Č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www(Asociace muzeí a galerií České republiky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3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číselná, písmenná, …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dřízenost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7080" y="2133360"/>
            <a:ext cx="83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Fakultní nemocnice u svaté Anny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Brno, Česk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Interní klinika,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I. interní klinika FN u sv. Anny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á interní klinika FN u sv. Anny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Fakultní nemocnice u svaté Anny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4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umělecká sbírka apod.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Národní galerie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 (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raha, Česk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bírka umění 19. století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bírka umění 19. století NG v Pra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Národní galerie v Pr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5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vysokoškolská fakulta,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katedra, ústav, …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99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ysoké učení technické v Br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Fakulta výtvarných umě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kulta výtvarných umění VUT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VU V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Vysoké učení technické v Br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6. typ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obsahuje celé jméno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nadřízené korporace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Akademie múzických umění v Pr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niho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ovna Akademie múzických umě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ovna A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Akademie múzických umění v Pr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97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ČI II. - Státní orgány, </a:t>
            </a:r>
            <a:br>
              <a:rPr sz="4400"/>
            </a:b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organizace a státní činitelé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8629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ýbor, komise, úř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ministerst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zákonodárný org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o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5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ložky ozbrojených sil st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6. ty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hlava státu neb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tátního/správního cel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7. typ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elvyslanectví, konzulá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.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výbor, komise, úřad)</a:t>
            </a:r>
            <a:br>
              <a:rPr sz="3600"/>
            </a:br>
            <a:r>
              <a:rPr b="1" i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i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korporace v systému státní správy)</a:t>
            </a:r>
            <a:r>
              <a:rPr b="0" lang="cs-CZ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7640" y="2349360"/>
            <a:ext cx="8737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Úřad vlá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řad vlády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řad vlády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Úřad vlády Č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.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výbor, komise, úřad)</a:t>
            </a:r>
            <a:br>
              <a:rPr sz="3600"/>
            </a:br>
            <a:r>
              <a:rPr b="1" i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i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korporace v systému samosprávy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2333520"/>
            <a:ext cx="8521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Beroun (Česk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Městský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tský úřad Ber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Městský úřad Ber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2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ministerstvo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921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Ministerstvo kul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kultury České republ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kultury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Ministerstvo kultury Č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Doporučené zdroj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- Báze národních autorit NK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rporace, k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ografický term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C Names - Báze autorit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me Authority H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bject Authority H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tál „Národní autority ČR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enné aut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tivní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ick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3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zákonodárný orgán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ar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en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át Parlamentu České republ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át Parlamentu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Senát Parlamentu ČR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4.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soud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Nejvyšší s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soud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soud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Nejvyšší soud Č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5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složky ozbrojených sil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05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Armá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máda České republ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máda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 (Armáda České republik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6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hlava státu nebo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tátního/správního celku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10710|n|acnnnaabn----------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rezident (1993-2003 : Ha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 též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Havel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Václ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936-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93916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7. typ </a:t>
            </a: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(velvyslanectví, konzulát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23760" y="1915920"/>
            <a:ext cx="993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daje pevné délk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90707|n|acnnnaabn----------fn-a|a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elvyslanectví 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(Nizozemsko)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vyslanectví České republiky  v Nizozems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vyslanectví ČR v Nizozems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bassade van de Tsjechische Republi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du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ČI III. - Objekty </a:t>
            </a:r>
            <a:r>
              <a:rPr b="0" i="1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(stavby)</a:t>
            </a: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 jako korporac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áš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stely (katedrály, baziliky, ka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ady (zámky, tv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tiš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dra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Kláštery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nezaměnitelný název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Břevnovský kláš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nediktinské arciopatství sv. Vojtěcha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v. Marké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řevnov, Praha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ášter Řádu svatého Benedikt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řevnov, Praha, Česk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Kláštery</a:t>
            </a:r>
            <a:br>
              <a:rPr sz="4000"/>
            </a:b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snadno zaměnitelný název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lášter františkán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Uherské Hradiště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Františkánský klášter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Uherské Hradiště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ntiškánský klášter v Uherském Hradiš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ášter františkánů v Uherském Hradiš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Kostel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71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ostel Panny Marie Vítězné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Řepy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Praha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stel Panny Marie Vítězné na Bílé Hoř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tní kostel Panny Marie Vítězné na Bílé Hoř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Katedrály, baziliky, kap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Katedrála sv. Barbory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utná Hora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Bazilika Panny Marie Bolestné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Bohosudov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Kaple sv. Anny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Domažlice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 Black"/>
              </a:rPr>
              <a:t>Struktura autoritního záznamu pro korporac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785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ávěští zázn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ntrolní čís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atum poslední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Údaje pevné dél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40 znakových pozic = informace o specifických aspektech záhla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8. pozice = Typ vládní agentury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(VA)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nejedná se o 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lok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ederální (národní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zinárodní/mezivlá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státní, provinční,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lok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nom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z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jiný typ 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Zdroj katalogizace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stituce, zodpovědná za aktuální stav zá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Hrady, zámk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Kašperk (h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lsberg (h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romadný odkaz viz pro hrady (a zámky):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* Hrad ... - hledejte pod geografickým </a:t>
            </a:r>
            <a:r>
              <a:rPr b="0" i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jmé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V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dy hledejte pod jejich vlastním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geografickými) jmé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Letiště, nádraží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844640"/>
            <a:ext cx="8007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Letiště Praha-Ruzyně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aha-Ruzyně (letišt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Plzeň-Jižní Předměstí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železniční nádraž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draží Plzeň-Jižní Předmě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Arial Black"/>
              </a:rPr>
              <a:t>ČI - Akce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záhlaví pro 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/datum konání akce jako součást názvu 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 konaní u zahraničních 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míst konání 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zapsaná pod korpo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riálové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ografické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hlaví 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truktura záhlaví pro akce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666880"/>
            <a:ext cx="8439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ní prve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"/>
              </a:rPr>
              <a:t>Výtvarné léto v Galerii um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íslo (pořadí) akce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o konání akce: 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Karlovy Vary, Česko)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8512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Místo/datum konání akce jako součást názvu akce</a:t>
            </a:r>
            <a:br>
              <a:rPr sz="40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Divadelní 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Třebíč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200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metanova Litomy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(3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1994)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8675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Místo konání akce jako součást názvu akce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0074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řemežský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veletrh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8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řemže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Čes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Beethovenův 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Hradec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3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Hradec nad Moravicí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, Čes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méno místa musí odpovídat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geografické autoritě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!)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Dvě místa konání akc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1844640"/>
            <a:ext cx="8558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ny evropského fil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raha a Brno, Čes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hran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Český Těšín, Česko a Cieszyn, Pols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Tři a více míst konání akc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ebiofes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raha, Česko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atd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uvede se první jmenované místo a „atd.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Akce zapsaná pod korporací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10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Asociace muzeí a galerií České republiky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něm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7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dec Králové, Česko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Sněm Asociace muzeí a galerií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dec Králové, Česko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Podřízená složka akc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Academia film Olomouc (festival)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Organizační štá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ganizační štáb Academia fil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lomo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ganizační štáb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Záhlav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Záhlaví pro korpor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kátor 1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éno pod místem nebo pod jurisdi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ndikátor 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méno v přímém po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stupní prv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obvykle název korpo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řízená slo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íslo (pořadí) akc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Datum a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ísto konání a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ní čís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eriálové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a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monografické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záhlaví akce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autorita pr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seriálové zpracování“)</a:t>
            </a:r>
            <a:r>
              <a:rPr b="0" lang="cs-CZ" sz="40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800712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ýtvarné Hlinecko (výst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ava „Výtvarné Hlinecko“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známka (V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Výstava se koná v Hlinsku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každoročně od r.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Viz též záhlaví pro jednotlivé ročníky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Seriálové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a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monografické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záhlaví akce</a:t>
            </a:r>
            <a:br>
              <a:rPr sz="3600"/>
            </a:b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(autorita pr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Black"/>
              </a:rPr>
              <a:t>monografické zpracování“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hlaví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ýtvarné Hlinec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35.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Hlinsko, Chrudim, 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az viz též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ýtvarné Hlinecko (výst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(V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400" spc="-1" strike="noStrike" u="sng">
                <a:solidFill>
                  <a:srgbClr val="3333ff"/>
                </a:solidFill>
                <a:uFillTx/>
                <a:latin typeface="Arial"/>
              </a:rPr>
              <a:t>Toto záhlaví se používá pouze p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da-DK" sz="2400" spc="-1" strike="noStrike" u="sng">
                <a:solidFill>
                  <a:srgbClr val="3333ff"/>
                </a:solidFill>
                <a:uFillTx/>
                <a:latin typeface="Arial"/>
              </a:rPr>
              <a:t>monografickém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da-DK" sz="2400" spc="-1" strike="noStrike" u="sng">
                <a:solidFill>
                  <a:srgbClr val="3333ff"/>
                </a:solidFill>
                <a:uFillTx/>
                <a:latin typeface="Arial"/>
              </a:rPr>
              <a:t>zpracování</a:t>
            </a:r>
            <a:r>
              <a:rPr b="0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da-DK" sz="2400" spc="-1" strike="noStrike" u="sng">
                <a:solidFill>
                  <a:srgbClr val="3333ff"/>
                </a:solidFill>
                <a:uFillTx/>
                <a:latin typeface="Arial"/>
              </a:rPr>
              <a:t>publik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ojmila.svetlikova@nkp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ff"/>
                </a:solidFill>
                <a:uFillTx/>
                <a:latin typeface="Arial"/>
              </a:rPr>
              <a:t>Záhlaví pro a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kátor 1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éno pod místem nebo pod jurisdi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ndikátor 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méno v přímém po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stupní prv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obvykle název ak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íslo (pořadí) a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atum a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ísto konání a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řízená slo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ní čís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8388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Odka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Odkaz VIZ jméno korporace / 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a odkazu je stejná jako u záhlav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ožnost označen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jazyka jinojazyčné verze záhl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Odkaz VIZ TÉŽ jméno korporace / 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a odkazu je stejná jako u záhlav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ožnos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m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ě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=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ší zá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 = n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ší zá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1398600"/>
            <a:ext cx="84978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Poznám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Komplexní poznámka</a:t>
            </a:r>
            <a:r>
              <a:rPr b="0" i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uje vztah mezi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hlav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dkazem viz též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Veřejná všeobecná poznámka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uje všeobecné informace o zá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ff"/>
                </a:solidFill>
                <a:uFillTx/>
                <a:latin typeface="Arial"/>
              </a:rPr>
              <a:t>Neveřejná všeobecná poznámka</a:t>
            </a:r>
            <a:r>
              <a:rPr b="1" lang="cs-CZ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ff"/>
                </a:solidFill>
                <a:latin typeface="Arial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 je určená především ostatním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talogizátorů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4:02:28Z</dcterms:created>
  <dc:creator>Svojmila Světlíková</dc:creator>
  <dc:description/>
  <dc:language>en-US</dc:language>
  <cp:lastModifiedBy>Světlíková Svojmila</cp:lastModifiedBy>
  <dcterms:modified xsi:type="dcterms:W3CDTF">2013-10-25T11:11:08Z</dcterms:modified>
  <cp:revision>78</cp:revision>
  <dc:subject/>
  <dc:title>Tvorba autoritního záznamu  pro korporace</dc:title>
</cp:coreProperties>
</file>