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99C-1AB9-467A-A946-D5B0A48C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C31-A128-47F7-A667-35B959CC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594-421C-40BE-B24A-E0EF50A7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6D5-A331-4FC4-ACE4-A6CC1C6F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95D-017C-4DD8-90AF-E8AC676F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83B-B110-4CF5-BF82-20F79FAD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E78-5E80-4793-9942-88DB9256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73E-1FF5-434C-AFF0-2C5F55B5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EDC-5257-465D-81D5-F83D6017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78F-6256-44AC-9714-F4E386C1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EC9-195C-41B6-AC70-2CFD40B0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BA5-C749-4F2A-B211-98C09E64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0778-F3DF-4705-A201-A653AECF7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0920" y="35809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Připrav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Vlaďka Mazačová (RG Č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Jarmila Podolníková (CITeM MZ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lín, 15. - 16. 10.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tomyšl, 6. - 7. 11.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Arial"/>
              </a:rPr>
              <a:t>Harmonizace rozvoje Registru sbírek výtvarného umění a Muzejních autorit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práva o projektu RG ČR a C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logoCITeM"/>
          <p:cNvPicPr/>
          <p:nvPr/>
        </p:nvPicPr>
        <p:blipFill>
          <a:blip r:embed="rId1"/>
          <a:stretch/>
        </p:blipFill>
        <p:spPr>
          <a:xfrm>
            <a:off x="1523880" y="3581280"/>
            <a:ext cx="83664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rg_logo1"/>
          <p:cNvPicPr/>
          <p:nvPr/>
        </p:nvPicPr>
        <p:blipFill>
          <a:blip r:embed="rId2"/>
          <a:stretch/>
        </p:blipFill>
        <p:spPr>
          <a:xfrm>
            <a:off x="685800" y="3581280"/>
            <a:ext cx="7812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Dosavadní výsledky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Řada 1 = počet sbírkových předmětů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Řada 2 = počet záznamů sbírkových předmětů instituce v Regist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4920" y="6172200"/>
            <a:ext cx="79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ce jsou seřazeny podle celkového počtu předmětů vzestupně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graf1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3915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Dosavadní výsledky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</a:rPr>
              <a:t>Sbírky versus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alizace dat Registru se postupně projeví snížením počtu záznamů tab.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3124080"/>
          <a:ext cx="6566040" cy="35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656604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Dosavadní výsledky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</a:rPr>
              <a:t>Muzejní aut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školení editorů v CITe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epsání událostí narození a úmrtí (datum i místo) pr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šechny personální autorit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pojení autorů Rejstříku na záznam v Muzejních i Národních autoritác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é autoritní záznamy resp. aktualizace stávajících: cca 300 záznam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čet záznamů personálních MA: </a:t>
            </a: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5 5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Dosavadní výsledky - přín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uzejní auto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hledávání podle narození (data i místa) má větší vypovídací hodnotu, protože téměř všechny záznamy personálních autorit mají tyto údaje vyplněn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ohlížeč muzejních autor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 možnost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hledávání umožňuje již ny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vyhl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10480" cy="55231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ohlížeč MA - vyhledávání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3276720"/>
            <a:ext cx="1676520" cy="380880"/>
          </a:xfrm>
          <a:prstGeom prst="ellipse">
            <a:avLst/>
          </a:prstGeom>
          <a:noFill/>
          <a:ln w="442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vyhledane1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19760" cy="5121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ohlížeč MA - výsledky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057400"/>
            <a:ext cx="1676520" cy="380880"/>
          </a:xfrm>
          <a:prstGeom prst="ellipse">
            <a:avLst/>
          </a:prstGeom>
          <a:noFill/>
          <a:ln w="442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Další pokračování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gistr sbí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pojení institucí, které dosud nedodaly žádná da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osobní konzultace nebo společný semin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uzejní aut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ní nových editorů z řad odborných kurátor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orba nových a aktualizace stávajících záznamů všech typů autor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2014 = nový dílčí projekt 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590920" y="35809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www.radagalerii.c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www.citem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armonizace rozvoje Registru sbírek výtvarného umění a Muzejních autori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ěkujeme za pozor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logoCITeM"/>
          <p:cNvPicPr/>
          <p:nvPr/>
        </p:nvPicPr>
        <p:blipFill>
          <a:blip r:embed="rId1"/>
          <a:stretch/>
        </p:blipFill>
        <p:spPr>
          <a:xfrm>
            <a:off x="1523880" y="3581280"/>
            <a:ext cx="83664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rg_logo1"/>
          <p:cNvPicPr/>
          <p:nvPr/>
        </p:nvPicPr>
        <p:blipFill>
          <a:blip r:embed="rId2"/>
          <a:stretch/>
        </p:blipFill>
        <p:spPr>
          <a:xfrm>
            <a:off x="685800" y="3581280"/>
            <a:ext cx="7812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čně o společných 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ánované výstupy v r.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asov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avadní výsled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ší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Stručně o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začátek Registru sbírek výtvarného umění, analýza a úprava ProMuSu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smlouva mezi RG ČR a CITeM, plnění Registru daty, prezentace na konferenci AKM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rojekt Harmonizace rozvoje Registru sbírek výtvarného umění a Muzejních autorit, dotace MK ČR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rojekt obhájen, další pokračován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lánované výstupy v r.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</a:rPr>
              <a:t>Registr sbí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é záznamy a oprava stávajících (celkem cca 10 tisí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lepšení metodiky zápisu dat do Demusu pro potřeby Regis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599840"/>
            <a:ext cx="4495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uzejní aut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é záznamy a doplnění stávajících personálních, korporativních a geografických autorit (celkem cca 1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lepšení metodiky zápisu muzejních auto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5105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školení a 1 seminář pro ed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orné konzultace pro kurátory a pracovníky gale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Harmonogram projekt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</a:rPr>
              <a:t>1. čtrtl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lnění skupiny edito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400" spc="-1" strike="noStrike">
                <a:solidFill>
                  <a:srgbClr val="dddddd"/>
                </a:solidFill>
                <a:latin typeface="Arial"/>
              </a:rPr>
              <a:t>Magda Deverová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Hana Larvová, Magda Nešlehová, Marta Perůtková, Zuzana Štěpanovičová, Pavlína Pyšná</a:t>
            </a:r>
            <a:r>
              <a:rPr b="0" lang="cs-CZ" sz="2400" spc="-1" strike="noStrike">
                <a:solidFill>
                  <a:srgbClr val="dddddd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Arial"/>
              </a:rPr>
              <a:t>Petr Beráne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spořádání školení pro editory v CITe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ravy chyb ve sbírkové evidenc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žná aktualizace Registru sbír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nových záznamů v MA.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Harmonogram projekt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</a:rPr>
              <a:t>2. - 3. čtrtl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nových záznamů v MA, ověřování dat ve zdrojích, zápis nových zdrojů do katalog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ravy chyb ve sbírkové evidenci na základě nedostatků identifikovaných koordinátorem v Registru sbír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alizace tabulky Osobnosti používané při dokumentaci sbírkových předmět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žná aktualizace Registru sbírek.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Harmonogram projekt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</a:rPr>
              <a:t>4. čtrtl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nových záznamů v MA, ověřování dat ve zdrojích, zápis nových zdrojů do katalog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ravy chyb ve sbírkové evidenc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alizace tabulky Osobnost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žná aktualizace Registru sbír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spořádání semináře pro edit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odnocení projektu.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Dosavadní výsledky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</a:rPr>
              <a:t>Registr sbí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rola a připomínkování obsahu dat, konzultace s kurát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 aktualizací dat tabulky Sbírk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aktualizace tabulky Rejstřík autor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alizace tabulky Institu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lnění údajů o sbírkách instituc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elkový počet dat v tab. Sbírky: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104 5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Dosavadní výsledky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čet záznamů sbírkových předmětů v Registru podle data aktu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graf2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734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tem10</dc:creator>
  <dc:description/>
  <dc:language>en-US</dc:language>
  <cp:lastModifiedBy>Jarmila Podolníková</cp:lastModifiedBy>
  <dcterms:modified xsi:type="dcterms:W3CDTF">2013-10-09T06:56:32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